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79D-6C0B-4CF0-BDB5-F9B80F5C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C24-6883-4FDF-9A3D-3F0C4FB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1BD-BCE1-465F-A048-D9C4B585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F66-E867-4BC5-8067-E43326A5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252-CBCE-405D-A930-DBAA2907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7C5-4D98-40F5-9618-93050E9A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455-0383-40D2-A628-C2DF68CF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97A-C31E-4F93-B947-112840C7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055-CE2C-4170-8CD1-A63E5AB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86E-50AB-4D37-AD2F-3EA6839A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405-D0E3-48FF-946E-BAE952C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175-F951-4D1D-9453-953AA7E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607-8D99-4275-AB5D-C25C7D61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19"/>
                </a:solidFill>
                <a:latin typeface="Comic Sans MS"/>
              </a:rPr>
              <a:t>Aim:  How did Nelson Mandela shape the future of South Africa?</a:t>
            </a:r>
            <a:br>
              <a:rPr sz="3200"/>
            </a:br>
            <a:r>
              <a:rPr b="0" lang="en-US" sz="3200" spc="-1" strike="noStrike">
                <a:solidFill>
                  <a:srgbClr val="191919"/>
                </a:solidFill>
                <a:latin typeface="Comic Sans MS"/>
              </a:rPr>
              <a:t>L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19"/>
                </a:solidFill>
                <a:latin typeface="Comic Sans MS"/>
              </a:rPr>
              <a:t>Do Now:  Document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2743200"/>
            <a:ext cx="8991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outh Afric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ish colonial rule led to racial segregation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10 gained self rule from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1948  The National Party came into power in South Africa.  They instituted the policy of apartheid. (racial segreg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05320" cy="222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456160" y="3505320"/>
            <a:ext cx="2725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46479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59 set up homelands:  certain areas where blacks could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Blacks protested the treatment by organizing the African National Congress(ANC)They organized strikes and boycotts against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A major ANC leader named Nelson Mandela was imprisoned in 196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)Blacks continued to protest and many were killed in a variety of pro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1989 FW De Clerk was elected.  He transformed South Africa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easing Nelson Mandela in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ding apartheid la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ed first multiracial election in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79960" cy="341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5715000" y="0"/>
            <a:ext cx="3200400" cy="428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3276720" y="3124080"/>
            <a:ext cx="3541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son Mandela Activity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 Analyze the four sources and log your summary in the ch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 Using information from the notes and documents create an interview script with your group to be performed at the end of the perio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21:35:13Z</dcterms:created>
  <dc:creator>NYCDOE</dc:creator>
  <dc:description/>
  <dc:language>en-US</dc:language>
  <cp:lastModifiedBy>NYCDOE</cp:lastModifiedBy>
  <dcterms:modified xsi:type="dcterms:W3CDTF">2012-02-02T14:24:30Z</dcterms:modified>
  <cp:revision>2</cp:revision>
  <dc:subject/>
  <dc:title>Aim:  How did Nelson Mandela shape the future of South Africa? L33</dc:title>
</cp:coreProperties>
</file>